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E86-8F9A-472D-9939-8F361FF2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2D1-7506-4EBA-A60A-4413E135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639-9210-492D-8FA7-29BBF227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8D6-D9E5-4BDE-88FD-F878F2A5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CE14-2A1A-4268-88C3-E62DBD2A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3BE9-214D-49B0-A62B-3B127234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0BA3-74E5-4657-AF73-13B99747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69B9-294A-4FFA-81D8-6A567F9F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73EA-70CB-4FFD-B380-FAACA4C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F41-B0F3-410E-84B7-1F503CB2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2EAD-64E4-49B9-9A0E-0C8C294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BD9-6084-44CD-90B5-42A0CE48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10F4-9485-43E2-80A5-2EB3018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B244-5298-48F1-9FA8-A7193F5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3574-1980-49FF-874C-709BDA3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32FE-2B51-48A0-99FE-2ECC7DB1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8EF1-1A86-4867-A7B9-15389A2A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A29-2C95-41B3-B728-01DB3D5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D14-3025-4553-B1E7-B9F30EF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813-AFD0-42CB-9983-8D94DA4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194-D65C-433B-98AE-C1A334A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086-857A-40AB-9A94-2AEC4B1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3BF-77FE-4497-8961-129D0AC8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59E-7B1C-4530-BD1F-2B0E73BB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195-7DA0-4BC4-BB1A-1AE2AD38804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4352-6993-4186-B755-04C8826129C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omi@primary-science.co.uk" TargetMode="External"/><Relationship Id="rId2" Type="http://schemas.openxmlformats.org/officeDocument/2006/relationships/hyperlink" Target="http://www.primary-science.co.uk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1 and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omparative test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the materials to see how well they absorb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ooking more close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4067280" y="1920960"/>
            <a:ext cx="3330360" cy="38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ooking more close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your leaf more closely and draw it in as much detail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your leaf to a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24000" y="1773360"/>
            <a:ext cx="151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Only this leaf ha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7380360" y="1773360"/>
            <a:ext cx="1439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Only this leaf ha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24000" y="4044960"/>
            <a:ext cx="849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They both hav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01680" y="5397480"/>
            <a:ext cx="8496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They both hav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35" name="Straight Arrow Connector 12"/>
          <p:cNvCxnSpPr/>
          <p:nvPr/>
        </p:nvCxnSpPr>
        <p:spPr>
          <a:xfrm flipH="1" flipV="1">
            <a:off x="1834920" y="2743920"/>
            <a:ext cx="505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Straight Arrow Connector 14"/>
          <p:cNvCxnSpPr/>
          <p:nvPr/>
        </p:nvCxnSpPr>
        <p:spPr>
          <a:xfrm>
            <a:off x="6740280" y="2739600"/>
            <a:ext cx="640440" cy="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6"/>
          <p:cNvCxnSpPr/>
          <p:nvPr/>
        </p:nvCxnSpPr>
        <p:spPr>
          <a:xfrm>
            <a:off x="3292200" y="3715920"/>
            <a:ext cx="1080" cy="32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Straight Arrow Connector 18"/>
          <p:cNvCxnSpPr/>
          <p:nvPr/>
        </p:nvCxnSpPr>
        <p:spPr>
          <a:xfrm>
            <a:off x="5497200" y="3706560"/>
            <a:ext cx="108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9" name="Picture 2" descr="http://www.meridian.k12.il.us/middle%20school/student_work/katiepetrowsky/sycamore_leaf.jpg"/>
          <p:cNvPicPr/>
          <p:nvPr/>
        </p:nvPicPr>
        <p:blipFill>
          <a:blip r:embed="rId1"/>
          <a:stretch/>
        </p:blipFill>
        <p:spPr>
          <a:xfrm>
            <a:off x="2627280" y="1797120"/>
            <a:ext cx="1459080" cy="2017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upload.wikimedia.org/wikipedia/en/f/f3/Oak_leaf.PNG"/>
          <p:cNvPicPr/>
          <p:nvPr/>
        </p:nvPicPr>
        <p:blipFill>
          <a:blip r:embed="rId2"/>
          <a:stretch/>
        </p:blipFill>
        <p:spPr>
          <a:xfrm>
            <a:off x="4284720" y="1762200"/>
            <a:ext cx="22114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 on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ess how I have s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attern seek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all leaves have 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plants with ……… have …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plants with smaller leaves have more lea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Observations over tim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onal change (Year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(Year 1 and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ing things and their habitats (Year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hanges throughout th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ill you record th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n animal (anima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out what it eats (animal 2 or p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out what that animal eats (animal 3 or p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27240" y="4724280"/>
            <a:ext cx="72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50" name="Straight Arrow Connector 5"/>
          <p:cNvCxnSpPr/>
          <p:nvPr/>
        </p:nvCxnSpPr>
        <p:spPr>
          <a:xfrm>
            <a:off x="1187280" y="4868640"/>
            <a:ext cx="122472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1" name="TextBox 6"/>
          <p:cNvSpPr/>
          <p:nvPr/>
        </p:nvSpPr>
        <p:spPr>
          <a:xfrm>
            <a:off x="7713720" y="4724280"/>
            <a:ext cx="109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130000" y="4724280"/>
            <a:ext cx="109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2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546640" y="4724280"/>
            <a:ext cx="109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3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54" name="Straight Arrow Connector 9"/>
          <p:cNvCxnSpPr/>
          <p:nvPr/>
        </p:nvCxnSpPr>
        <p:spPr>
          <a:xfrm>
            <a:off x="6389640" y="4909680"/>
            <a:ext cx="122472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10"/>
          <p:cNvCxnSpPr/>
          <p:nvPr/>
        </p:nvCxnSpPr>
        <p:spPr>
          <a:xfrm>
            <a:off x="3779640" y="4876560"/>
            <a:ext cx="122436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Gap ta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your local area and identify good spots for your ongo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 to get outside on a regular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planning consider the type of enquiry that children will b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pettes, syringes, teasp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tl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familiar with the changes in the new curriculum and how these affect current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 and on go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dentify areas for support in the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timeli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ised in Sept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mplemented in year 3 and 4 now, must be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1 and 5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2 and 6 in place for Sept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rebuchet MS"/>
              </a:rPr>
              <a:t>The new curriculum - rebranding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enquiry is now called working scientifically- it is still at the core of th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life processes and liv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ls, including hum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ving things and their habit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materials and thei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s of 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erties and changes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4 – phys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ces and mag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th an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chang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content has g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has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want to focus on during the next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ogression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 in knowledge is more clearly map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strand and explore how the year 1 and 2 content fits before the other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progression clear in all st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focus on outdo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pportunity to rethink how we appro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t 6 unit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units – seasonal change year 1, plants year 1 and 2, (living things and their habitat year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different typ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ation – discuss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/fair testing - absorb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– sorting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 seeking – leaf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ver time – seasonal change,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ing – what animals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the different cl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what ways are they the same and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them in order of how well you think they will absorb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3-11-27T08:51:51Z</dcterms:modified>
  <cp:revision>74</cp:revision>
  <dc:subject/>
  <dc:title>Science coordinators’ meeting 22nd September 2011</dc:title>
</cp:coreProperties>
</file>